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AFD-46C4-4BE5-BED9-850EA503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E04-3F2E-4A4C-B91C-0A7318A1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D83-FBF8-461E-8E9B-EC38C3A8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5E3-BB27-4441-9995-2B92F02A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70B-796B-4BC4-A064-C89D5B54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869-0F38-40E7-9381-FE34F969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CE3-23F5-418F-AF63-8BD7F962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A0C-A883-4390-9055-A1F00F60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858-997B-47E5-A804-E3C8BC72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FEB-E3C4-4942-9677-FE47F164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39E-7A30-4ABC-AAF9-3B9A2F66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459-3D73-4E5D-AC0B-BFEAC365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ACE-72B9-46AD-AB8A-AE2B0470F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dsworth.org/chemheme/heme/cytoheme/hemepix/slide151B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38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at is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Anemia is a genetic disorder caused by a m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tation is a change in the nitrogen bases that make up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7053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point mutati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hemoglobin is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lick for higher resolution imag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371600"/>
            <a:ext cx="2476440" cy="203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8381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Transmit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3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ffected Parent is Heterozygous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child has two alleles or copies of gene, one from each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ymptoms of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1587600"/>
            <a:ext cx="57052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23:28:37Z</dcterms:created>
  <dc:creator>jmcloughlin</dc:creator>
  <dc:description/>
  <dc:language>en-US</dc:language>
  <cp:lastModifiedBy>jmcloughlin</cp:lastModifiedBy>
  <dcterms:modified xsi:type="dcterms:W3CDTF">2013-12-12T23:42:20Z</dcterms:modified>
  <cp:revision>3</cp:revision>
  <dc:subject/>
  <dc:title>Sickle Cell Anemia</dc:title>
</cp:coreProperties>
</file>