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697-E605-4BA0-A6F2-3BBBFE82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F38-B52B-44B4-B2BB-CE4CCB4F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4A7-CE62-43A8-B6AB-03775346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157-122B-406C-8066-8177F321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0B1-2AFE-4567-B7C2-65B1C621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791-A192-4E6E-A590-5471CF54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82A-8CDA-44EF-A287-9EC4941D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422-BBE0-410F-ABA5-1A10B53A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F2A-578F-41EB-B264-06226F6F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438-D57B-4225-BA69-D9ED4467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D528-D724-45D6-926F-4EBE5CAB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C0F-E8D1-4974-8596-1F02F4E4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CAD4-73F7-4D9C-A0D1-2ABD4D8E2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dsworth.org/chemheme/heme/cytoheme/hemepix/slide151B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09680" y="3048120"/>
            <a:ext cx="4838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at is 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ckle cell Anemia is a genetic disorder caused by a mu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tation is a change in the nitrogen bases that make up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67053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point mutation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hemoglobin is 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lick for higher resolution imag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371600"/>
            <a:ext cx="2476440" cy="2039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276720"/>
            <a:ext cx="83818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it Transmit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633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ffected Parent is Heterozygous carr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ed child has two alleles or copies of gene, one from each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Sickle Cell 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Symptoms of Sickle Cell An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5120" y="1587600"/>
            <a:ext cx="57052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23:28:37Z</dcterms:created>
  <dc:creator>jmcloughlin</dc:creator>
  <dc:description/>
  <dc:language>en-US</dc:language>
  <cp:lastModifiedBy>jmcloughlin</cp:lastModifiedBy>
  <dcterms:modified xsi:type="dcterms:W3CDTF">2013-12-12T23:42:20Z</dcterms:modified>
  <cp:revision>3</cp:revision>
  <dc:subject/>
  <dc:title>Sickle Cell Anemia</dc:title>
</cp:coreProperties>
</file>