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CC3-9FE2-43C4-A746-47963231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043-E237-4821-95CB-BA427FF2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099-9480-4367-8B91-DE49A50F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804-9546-4B29-98DC-ED2F8E70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E0F-7AE1-4CB2-A7B2-5611F605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F9F-C14A-4D42-81D4-F1CD7FFD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E83-46F0-4213-83A4-80D48CDE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885-A477-43A5-9CA7-09D79D69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B9F-83C3-4BC8-AE1A-B9C39E94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C1C-2B44-4994-AB87-A2D5A5A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789-CD99-42B0-A271-17597E7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008-7F63-4F8B-9453-E1AB2671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AAE7-3A9A-481E-BE59-0541C6575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dsworth.org/chemheme/heme/cytoheme/hemepix/slide151B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38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Anemia is a genetic disorder caused by a 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is a change in the nitrogen bases that make up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7053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oint mut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emoglobin is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lick for higher resolution imag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371600"/>
            <a:ext cx="2476440" cy="20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8381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Transmit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ffected Parent is Heterozygous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child has two alleles or copies of gene, one from each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 of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587600"/>
            <a:ext cx="5705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23:28:37Z</dcterms:created>
  <dc:creator>jmcloughlin</dc:creator>
  <dc:description/>
  <dc:language>en-US</dc:language>
  <cp:lastModifiedBy>jmcloughlin</cp:lastModifiedBy>
  <dcterms:modified xsi:type="dcterms:W3CDTF">2013-12-12T23:42:20Z</dcterms:modified>
  <cp:revision>3</cp:revision>
  <dc:subject/>
  <dc:title>Sickle Cell Anemia</dc:title>
</cp:coreProperties>
</file>