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500-7ACC-4D2D-B569-5A78BCC3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412-8ED4-4954-BCBC-19462A42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FDEB-0425-442F-B98D-515C6CA3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F0F1-F312-47C6-8010-C60535B6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23C-692F-41F0-9C70-492F7BD5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BF5-E3CC-4B59-849A-1774DAE1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E09-C189-4BAB-86E7-E3F24CC5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6F0-9173-488F-BE03-A89B173B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9BC-7666-4633-AACA-79CE5138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2CA-244C-422C-AD85-DD51FD4E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F52-B96E-4A15-BE1A-7E82557D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501-FFCF-4D95-A78F-156462E4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25AB-CA00-4E92-91F2-28181D97A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adsworth.org/chemheme/heme/cytoheme/hemepix/slide151B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4838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hat is 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ckle cell Anemia is a genetic disorder caused by a mu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tation is a change in the nitrogen bases that make up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67053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point mutatio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hemoglobin is aff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Click for higher resolution imag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371600"/>
            <a:ext cx="2476440" cy="2039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276720"/>
            <a:ext cx="83818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it Transmit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633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ffected Parent is Heterozygous carr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ed child has two alleles or copies of gene, one from each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Symptoms of Sickle Cell Ane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5120" y="1587600"/>
            <a:ext cx="570528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2T23:28:37Z</dcterms:created>
  <dc:creator>jmcloughlin</dc:creator>
  <dc:description/>
  <dc:language>en-US</dc:language>
  <cp:lastModifiedBy>jmcloughlin</cp:lastModifiedBy>
  <dcterms:modified xsi:type="dcterms:W3CDTF">2013-12-12T23:42:20Z</dcterms:modified>
  <cp:revision>3</cp:revision>
  <dc:subject/>
  <dc:title>Sickle Cell Anemia</dc:title>
</cp:coreProperties>
</file>