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3544-8C1E-4F6C-8920-CC4F12977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AEF0-8E90-43B0-847E-47290AD8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AA16-00F3-4A4B-803F-65866ED66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63B7-23A1-4529-85AE-B3C3C6CDF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3896-2B37-40F0-AF2E-ABFC0FD4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921A-C802-4AAD-BF04-A4E50096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12CC-ADF0-4E73-BE08-7E48466A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3994-B2C6-4CD4-A2D6-A130DE74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FA98-B526-4605-9E6B-F1A86FDB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E743-3F43-4864-8FCC-6C7273AB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E1A0-2630-4A76-A46F-917A5E1D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245F-CB3F-4911-B313-8532A882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4A77-5457-41A4-9992-F1B9991B5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adsworth.org/chemheme/heme/cytoheme/hemepix/slide151B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ickle Cell An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09680" y="3048120"/>
            <a:ext cx="48387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What is Sickle Cell An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ckle cell Anemia is a genetic disorder caused by a mu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utation is a change in the nitrogen bases that make up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Do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6705360" cy="51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ickle Cell An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a point mutatio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 hemoglobin is aff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Click for higher resolution imag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1371600"/>
            <a:ext cx="2476440" cy="2039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3276720"/>
            <a:ext cx="838188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it Transmit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633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Punnett Squ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ffected Parent is Heterozygous carri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fected child has two alleles or copies of gene, one from each pa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Sickle Cell An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5257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Symptoms of Sickle Cell Anem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05120" y="1587600"/>
            <a:ext cx="570528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2T23:28:37Z</dcterms:created>
  <dc:creator>jmcloughlin</dc:creator>
  <dc:description/>
  <dc:language>en-US</dc:language>
  <cp:lastModifiedBy>jmcloughlin</cp:lastModifiedBy>
  <dcterms:modified xsi:type="dcterms:W3CDTF">2013-12-12T23:42:20Z</dcterms:modified>
  <cp:revision>3</cp:revision>
  <dc:subject/>
  <dc:title>Sickle Cell Anemia</dc:title>
</cp:coreProperties>
</file>